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7.jpeg" ContentType="image/jpeg"/>
  <Override PartName="/ppt/media/image10.png" ContentType="image/pn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91B-30D6-4690-B074-F9B99FA9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4097-E41E-4C13-9B5C-5A4905E9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B9D-780A-4984-968A-264682C2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DC4E-C041-495C-8C0D-094ABB2F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193D-3782-4A8C-925A-DBAA16D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1DB-281E-4C54-B7FA-13DD1083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FC8-4093-490E-B540-AB27D6EE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45C-9700-484D-8A3A-B77C1CF9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E6C-7564-4739-8FFC-F1876BA0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743-1579-4289-BFFF-13DC2A8B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B32-76D3-4253-859B-8B24A8A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53B-240D-4862-97CC-EF4F882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3C44-CAD6-4D2D-A59F-19D42B620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hno.com/images/larynx.gif" TargetMode="External"/><Relationship Id="rId2" Type="http://schemas.openxmlformats.org/officeDocument/2006/relationships/hyperlink" Target="http://images.google.com/imgres?imgurl=www.ishno.com/images/larynx.gif&amp;imgrefurl=http://www.ishno.com/lar.htm&amp;h=217&amp;w=265&amp;sz=23&amp;tbnid=ZjTkp3koqrcJ:&amp;tbnh=88&amp;tbnw=107&amp;start=1&amp;prev=/images?q=larynx&amp;hl=en&amp;lr=" TargetMode="External"/><Relationship Id="rId3" Type="http://schemas.openxmlformats.org/officeDocument/2006/relationships/hyperlink" Target="http://images.google.com/imgres?imgurl=www.interq.or.jp/kyuushu/sas/pharynx.gif&amp;imgrefurl=http://www.interq.or.jp/kyuushu/sas/nani.htm&amp;h=385&amp;w=368&amp;sz=7&amp;tbnid=pVRJGTAYM_0J:&amp;tbnh=118&amp;tbnw=112&amp;start=4&amp;prev=/images?q=pharynx&amp;hl=en&amp;lr=&amp;sa=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280BLOWINGCLOUD"/>
          <p:cNvPicPr/>
          <p:nvPr/>
        </p:nvPicPr>
        <p:blipFill>
          <a:blip r:embed="rId1"/>
          <a:stretch/>
        </p:blipFill>
        <p:spPr>
          <a:xfrm>
            <a:off x="685800" y="2743200"/>
            <a:ext cx="8001000" cy="383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lackadder ITC"/>
              </a:rPr>
              <a:t>RESPIRATION</a:t>
            </a: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goal of respir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00200" y="20574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hange gas between an organism &amp; th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]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emoglobin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647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GLOBIN binds with so much oxygen that it increases the oxygen carrying- capacity of the blood more than 60 tim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ructures of the respiratory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oes gas exchange occ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xt: What is the difference betw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ion and brea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F:\392\other392\Biology 392\Unit 4 - Chapter 37\resp system.gif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thing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ement of air into and 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he lu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s sit in two sacs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eural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bottom of the chest cavity is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ribs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costal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ce that drives breathing is air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muscles are directly connected to the lu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have a container of ga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the pressure change if you make the container smalle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it larg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4267080" y="3733920"/>
            <a:ext cx="1371600" cy="22096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209680"/>
              <a:gd name="textAreaBottom" fmla="*/ 2142720 h 2209680"/>
            </a:gdLst>
            <a:ahLst/>
            <a:rect l="textAreaLeft" t="textAreaTop" r="textAreaRight" b="textAreaBottom"/>
            <a:pathLst>
              <a:path w="21600" h="34795">
                <a:moveTo>
                  <a:pt x="3600" y="0"/>
                </a:moveTo>
                <a:arcTo wR="3600" hR="3600" stAng="16200000" swAng="-5400000"/>
                <a:lnTo>
                  <a:pt x="0" y="31195"/>
                </a:lnTo>
                <a:arcTo wR="3600" hR="3600" stAng="10800000" swAng="-5400000"/>
                <a:lnTo>
                  <a:pt x="18000" y="34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6477120" y="4724280"/>
            <a:ext cx="914400" cy="121932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219320"/>
              <a:gd name="textAreaBottom" fmla="*/ 1174680 h 12193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4648320" y="55627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4724280" y="41148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4648320" y="495288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5257800" y="541008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5105520" y="45720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705720" y="55627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6629400" y="518148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7010280" y="54864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5"/>
          <p:cNvSpPr/>
          <p:nvPr/>
        </p:nvSpPr>
        <p:spPr>
          <a:xfrm>
            <a:off x="6858000" y="48006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6"/>
          <p:cNvSpPr/>
          <p:nvPr/>
        </p:nvSpPr>
        <p:spPr>
          <a:xfrm>
            <a:off x="7086600" y="502920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inhale,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aphragm contrac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ands the volu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the chest ca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 the chest cavity is tightly sealed, this creates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al vacuu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de the ca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rushes into the lungs as a res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breathingmuscles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haling is a passive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phragm relaxes and lungs return to normal size, placing pressure on the lu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rushes out of the lu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ln18c"/>
          <p:cNvPicPr/>
          <p:nvPr/>
        </p:nvPicPr>
        <p:blipFill>
          <a:blip r:embed="rId1"/>
          <a:stretch/>
        </p:blipFill>
        <p:spPr>
          <a:xfrm>
            <a:off x="380880" y="3276720"/>
            <a:ext cx="8001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auses brea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uscles are involved with brea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y attached to the lung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air can you breat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ntrols your breath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609480"/>
            <a:ext cx="335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E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change between air, blood,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breathingmechanics"/>
          <p:cNvPicPr/>
          <p:nvPr/>
        </p:nvPicPr>
        <p:blipFill>
          <a:blip r:embed="rId1"/>
          <a:stretch/>
        </p:blipFill>
        <p:spPr>
          <a:xfrm>
            <a:off x="3809880" y="304920"/>
            <a:ext cx="495324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respiratorysystem"/>
          <p:cNvPicPr/>
          <p:nvPr/>
        </p:nvPicPr>
        <p:blipFill>
          <a:blip r:embed="rId1"/>
          <a:stretch/>
        </p:blipFill>
        <p:spPr>
          <a:xfrm>
            <a:off x="4191120" y="228600"/>
            <a:ext cx="4676760" cy="640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09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PIRATOR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TRUCT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52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se/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ryn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yn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lu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bronch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ve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Vessels: pulmonary artery + vein, capill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uth/N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2666520"/>
            <a:ext cx="7696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ir enter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piratory system through these two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ir is filtered, warmed, and moist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M00387_"/>
          <p:cNvPicPr/>
          <p:nvPr/>
        </p:nvPicPr>
        <p:blipFill>
          <a:blip r:embed="rId1"/>
          <a:stretch/>
        </p:blipFill>
        <p:spPr>
          <a:xfrm rot="19897200">
            <a:off x="95040" y="658440"/>
            <a:ext cx="3330360" cy="2203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M00388_"/>
          <p:cNvPicPr/>
          <p:nvPr/>
        </p:nvPicPr>
        <p:blipFill>
          <a:blip r:embed="rId2"/>
          <a:stretch/>
        </p:blipFill>
        <p:spPr>
          <a:xfrm>
            <a:off x="6172200" y="304920"/>
            <a:ext cx="2421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RYNX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 of 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nd behind the uv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es as a passageway f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ir and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YNX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ice box, Adam’s ap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s vocal 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loose flaps of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of the trache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pharyn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304920"/>
            <a:ext cx="2657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H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ndpi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CH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anch from trac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CHIOL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merous branches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ronch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chit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flammation of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chi/bronchi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bronchi"/>
          <p:cNvPicPr/>
          <p:nvPr/>
        </p:nvPicPr>
        <p:blipFill>
          <a:blip r:embed="rId1"/>
          <a:stretch/>
        </p:blipFill>
        <p:spPr>
          <a:xfrm>
            <a:off x="6705720" y="457200"/>
            <a:ext cx="22096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n layer of mucu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produced on the lining of the tubes of the respiratory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hin lay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ps partic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dust or smo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tubes are lined with CILIA th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weep away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ubes are made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til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re surrounded by smooth mus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596" t="946" r="57971" b="3489"/>
          <a:stretch/>
        </p:blipFill>
        <p:spPr>
          <a:xfrm>
            <a:off x="4724280" y="533520"/>
            <a:ext cx="4191120" cy="609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VEO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structures at the end of each bronchi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ce where gas exchange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xygen into blood, carbon dioxide into l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is surrounded by capillari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0 million alveol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in a healthy lu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surface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gas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xygen dissolves in the mois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then diffuse into the capilla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ffuses in the opposite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asthma-alveoli"/>
          <p:cNvPicPr/>
          <p:nvPr/>
        </p:nvPicPr>
        <p:blipFill>
          <a:blip r:embed="rId1"/>
          <a:stretch/>
        </p:blipFill>
        <p:spPr>
          <a:xfrm>
            <a:off x="6629400" y="4419720"/>
            <a:ext cx="2286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21:06:05Z</dcterms:created>
  <dc:creator>Joanne Lilliendahl</dc:creator>
  <dc:description/>
  <dc:language>en-US</dc:language>
  <cp:lastModifiedBy>MVanElli</cp:lastModifiedBy>
  <dcterms:modified xsi:type="dcterms:W3CDTF">2011-02-24T20:49:39Z</dcterms:modified>
  <cp:revision>15</cp:revision>
  <dc:subject/>
  <dc:title>RESPIRATION</dc:title>
</cp:coreProperties>
</file>